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amera.wav" ContentType="audio/x-wav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2BA-4197-4627-ADC3-2C958FE5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00D-1FDF-4231-B0DF-90983861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391-FF0D-4C2B-B931-20900F96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429-B6A7-4809-A20D-437ECE00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201-6CC6-4998-B353-43F7EAFF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55E-26B1-46A5-A5E7-1EFBCA1D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689-98D3-46CF-802C-646136C4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FD6-EE27-45E7-9259-2D6E783D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5E8-E486-4E8F-B8CD-49643A00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606-0006-4294-A19B-920EDFF3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1FE-86F0-4A00-99F5-9D487C17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4BE3-A21E-46AF-97B8-A79C9EED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BBE2-F1D1-4949-9C3E-428466420B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фотографии 11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82818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Электролитическая диссоциация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еакции ионного об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920" y="3886200"/>
            <a:ext cx="8642160" cy="27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ес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6"/>
          <p:cNvSpPr/>
          <p:nvPr/>
        </p:nvSpPr>
        <p:spPr>
          <a:xfrm>
            <a:off x="1428840" y="5016600"/>
            <a:ext cx="71892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758520"/>
            <a:ext cx="784692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полной диссоциации 1 моль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общее число моль образующихся ионов равн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72840" y="3071520"/>
            <a:ext cx="16542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 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6"/>
          <p:cNvSpPr/>
          <p:nvPr/>
        </p:nvSpPr>
        <p:spPr>
          <a:xfrm>
            <a:off x="1357200" y="4273560"/>
            <a:ext cx="71928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6720" y="642600"/>
            <a:ext cx="867600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сокращенном ионном уравнении реакции серной кислоты с гидроксидом натрия сумма коэффициентов равн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01920" y="3048120"/>
            <a:ext cx="17985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  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 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  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6"/>
          <p:cNvSpPr/>
          <p:nvPr/>
        </p:nvSpPr>
        <p:spPr>
          <a:xfrm>
            <a:off x="395280" y="4846680"/>
            <a:ext cx="71928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136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кращенное ионное уравнение реакци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3OH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соответствует взаимодействию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2901600"/>
            <a:ext cx="8064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 железа с гидроксидом натр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 железа с вод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  хлорида железа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 с гидрокси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ди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 хлорида железа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 с  гидрокси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т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7"/>
          <p:cNvSpPr/>
          <p:nvPr/>
        </p:nvSpPr>
        <p:spPr>
          <a:xfrm>
            <a:off x="5148360" y="3181320"/>
            <a:ext cx="718920" cy="934920"/>
          </a:xfrm>
          <a:prstGeom prst="irregularSeal1">
            <a:avLst/>
          </a:prstGeom>
          <a:solidFill>
            <a:srgbClr val="3333cc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250920" y="4643280"/>
            <a:ext cx="718920" cy="935280"/>
          </a:xfrm>
          <a:prstGeom prst="irregularSeal1">
            <a:avLst/>
          </a:prstGeom>
          <a:solidFill>
            <a:srgbClr val="3333cc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5076720" y="5286240"/>
            <a:ext cx="719280" cy="93528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250920" y="3900600"/>
            <a:ext cx="718920" cy="93492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5076720" y="3900600"/>
            <a:ext cx="71928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250920" y="3181320"/>
            <a:ext cx="72072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685440"/>
            <a:ext cx="846144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становите соответствие между сокращенными ионными уравнениями реакций обмена и веществами, вступающими в реакци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3324240"/>
            <a:ext cx="460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 Ca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Ca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 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 Ba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Ba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19280" y="3324240"/>
            <a:ext cx="36673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 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BaC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 Na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C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) NaOH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) Ba(OH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8"/>
          <p:cNvSpPr/>
          <p:nvPr/>
        </p:nvSpPr>
        <p:spPr>
          <a:xfrm>
            <a:off x="4675320" y="3683160"/>
            <a:ext cx="718920" cy="934920"/>
          </a:xfrm>
          <a:prstGeom prst="irregularSeal1">
            <a:avLst/>
          </a:prstGeom>
          <a:solidFill>
            <a:srgbClr val="3333cc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4675320" y="5556240"/>
            <a:ext cx="718920" cy="934920"/>
          </a:xfrm>
          <a:prstGeom prst="irregularSeal1">
            <a:avLst/>
          </a:prstGeom>
          <a:solidFill>
            <a:srgbClr val="009900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4748040" y="3035160"/>
            <a:ext cx="719280" cy="935280"/>
          </a:xfrm>
          <a:prstGeom prst="irregularSeal1">
            <a:avLst/>
          </a:prstGeom>
          <a:solidFill>
            <a:srgbClr val="00ffcc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4748040" y="4979880"/>
            <a:ext cx="719280" cy="93528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608040" y="5483160"/>
            <a:ext cx="719280" cy="93528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608040" y="4691160"/>
            <a:ext cx="719280" cy="934920"/>
          </a:xfrm>
          <a:prstGeom prst="irregularSeal1">
            <a:avLst/>
          </a:prstGeom>
          <a:solidFill>
            <a:srgbClr val="00ffcc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608040" y="3683160"/>
            <a:ext cx="719280" cy="934920"/>
          </a:xfrm>
          <a:prstGeom prst="irregularSeal1">
            <a:avLst/>
          </a:prstGeom>
          <a:solidFill>
            <a:srgbClr val="009900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608040" y="2963880"/>
            <a:ext cx="719280" cy="934920"/>
          </a:xfrm>
          <a:prstGeom prst="irregularSeal1">
            <a:avLst/>
          </a:prstGeom>
          <a:solidFill>
            <a:srgbClr val="3333cc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840" y="731520"/>
            <a:ext cx="89298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становите соответствие между классами исходных веществ, вступающих в реакции обмена, и сокращенными ионными уравнениями этих реакци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8960" y="3179880"/>
            <a:ext cx="34560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Кислота и мет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Кислота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й окс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Кислота и ос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Кислота и с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5520" y="3179520"/>
            <a:ext cx="4218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Z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) 2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Na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) Ag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Ag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) С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360" y="691920"/>
            <a:ext cx="338436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</a:rPr>
              <a:t>Спасибо за </a:t>
            </a:r>
            <a:br>
              <a:rPr sz="4800"/>
            </a:br>
            <a:r>
              <a:rPr b="1" lang="ru-RU" sz="4800" spc="-1" strike="noStrike">
                <a:solidFill>
                  <a:srgbClr val="7030a0"/>
                </a:solidFill>
                <a:latin typeface="Times New Roman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фиалка2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6"/>
          <p:cNvSpPr/>
          <p:nvPr/>
        </p:nvSpPr>
        <p:spPr>
          <a:xfrm>
            <a:off x="1428840" y="3429000"/>
            <a:ext cx="71892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электролитам относитс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01920" y="1916280"/>
            <a:ext cx="280656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 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6"/>
          <p:cNvSpPr/>
          <p:nvPr/>
        </p:nvSpPr>
        <p:spPr>
          <a:xfrm>
            <a:off x="1428840" y="4219560"/>
            <a:ext cx="71892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138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электролитам не относитс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0920" y="1928880"/>
            <a:ext cx="2662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 BaCl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nS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 H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 C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6"/>
          <p:cNvSpPr/>
          <p:nvPr/>
        </p:nvSpPr>
        <p:spPr>
          <a:xfrm>
            <a:off x="1357200" y="3443400"/>
            <a:ext cx="71928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7063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ильный электролит – эт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91840" y="1928520"/>
            <a:ext cx="26622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6"/>
          <p:cNvSpPr/>
          <p:nvPr/>
        </p:nvSpPr>
        <p:spPr>
          <a:xfrm>
            <a:off x="1500120" y="4651200"/>
            <a:ext cx="719280" cy="93528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бым электролитом является раствор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71760" y="2357280"/>
            <a:ext cx="237312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 H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6"/>
          <p:cNvSpPr/>
          <p:nvPr/>
        </p:nvSpPr>
        <p:spPr>
          <a:xfrm>
            <a:off x="1494000" y="2476440"/>
            <a:ext cx="71892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6760" y="92844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щество, при диссоциации которого образуются силикат-ио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эт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50520" y="2536560"/>
            <a:ext cx="280692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 K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Si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6"/>
          <p:cNvSpPr/>
          <p:nvPr/>
        </p:nvSpPr>
        <p:spPr>
          <a:xfrm>
            <a:off x="1428840" y="4805280"/>
            <a:ext cx="718920" cy="93528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810108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щество, при диссоциации которого образуются катионы цин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эт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99760" y="2500200"/>
            <a:ext cx="29494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  Zn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  Z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)  Zn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)  Zn(N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6"/>
          <p:cNvSpPr/>
          <p:nvPr/>
        </p:nvSpPr>
        <p:spPr>
          <a:xfrm>
            <a:off x="1500120" y="3573360"/>
            <a:ext cx="719280" cy="93528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9680" y="785880"/>
            <a:ext cx="79916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полной диссоциации 1 моль 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общее число моль образующихся ионов равн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44120" y="3068280"/>
            <a:ext cx="16542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6"/>
          <p:cNvSpPr/>
          <p:nvPr/>
        </p:nvSpPr>
        <p:spPr>
          <a:xfrm>
            <a:off x="1500120" y="3838680"/>
            <a:ext cx="719280" cy="93492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555480"/>
            <a:ext cx="83185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полной диссоциации 1 моль ортофосфата натрия образуетс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71400" y="2685600"/>
            <a:ext cx="395748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 2 моль ион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 3 моль и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 4 моль и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 5 моль и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химии</cp:lastModifiedBy>
  <dcterms:modified xsi:type="dcterms:W3CDTF">2015-04-10T04:33:28Z</dcterms:modified>
  <cp:revision>9</cp:revision>
  <dc:subject/>
  <dc:title>PowerPoint Presentation</dc:title>
</cp:coreProperties>
</file>